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833B-2FA9-4C38-9CDA-FA3B6ACD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DBF4-A9AC-4CF4-9CF3-49E06FAC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4583-0377-4F0E-9FD4-C9B8FDE3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A566-2FAA-46D4-9BA9-3F19FE8B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6B43-256A-4B1E-8CAF-B51AF41E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5779-ECFD-45E6-BC0A-A75EEEA6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FBDF-EBFE-4BB9-9CCC-3982390E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505F-3915-46C5-890A-6D1A7DBE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A7D5-4B59-4E7F-8DC5-19859AA8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94D0-6EEC-4B00-A681-9A0E199C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387D-D551-4045-8354-51C0F2FB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7F09-6338-4878-8D7D-4E8ABC54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AF4F-5A84-44C3-A762-275D98BAE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5024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502480" y="0"/>
            <a:ext cx="14036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84720" y="838080"/>
            <a:ext cx="1238040" cy="601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1160" y="838080"/>
            <a:ext cx="1320840" cy="601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22760" y="838080"/>
            <a:ext cx="1238400" cy="601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82000" y="838080"/>
            <a:ext cx="1320480" cy="601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502480" y="838080"/>
            <a:ext cx="1403640" cy="601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838080"/>
            <a:ext cx="1403640" cy="601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38080"/>
            <a:ext cx="1981080" cy="601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182000" y="380880"/>
            <a:ext cx="13204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02480" y="380880"/>
            <a:ext cx="14036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1160" y="380880"/>
            <a:ext cx="13208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22760" y="380880"/>
            <a:ext cx="12384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84720" y="380880"/>
            <a:ext cx="12380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380880"/>
            <a:ext cx="14036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80880"/>
            <a:ext cx="1981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3000" y="457200"/>
            <a:ext cx="102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43:55Z</dcterms:modified>
  <cp:revision>71</cp:revision>
  <dc:subject/>
  <dc:title>Contrôle interne des risques</dc:title>
</cp:coreProperties>
</file>